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813D-108C-4C51-87F3-7332B8F4A13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993E-3533-4D51-B96D-7DCD6FA2FC1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D9E47-357C-426E-B5F4-7A63F40B54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E84C5-AE5C-47B6-A1EA-A32632E0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FF6E9-DF6D-45AC-BFE1-FEE71787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C4263-8B0F-46D8-A738-216D6F6624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DDB05-DC8A-4300-AAE4-3E3E7454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4AF62-36F0-4DDA-B3FE-18368E26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4283E-CCA9-4C5E-96BE-8A700794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287E5-E689-4A30-B97E-5029F395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AAA42-1826-4D00-BA2E-4EF6C429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96A3-85C7-45CE-B230-DBAC8FA8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347B7-570A-4B20-9424-BDB60091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396FC-A931-4532-A665-99912C88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5AB6-31AC-4D35-9384-E25E7E1A8D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多发骨折伴休克，经扩容治疗后，神志未清醒，测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中心静脉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进一步的护理重点是什么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如何监测患者病情变化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/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先晶体后胶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复述休克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休克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休克辅助检查项目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休克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和防治感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照无菌技术原则执行各项护理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应用抗菌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、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口腔护理和留置尿管的护理，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意外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床单清洁、平整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患者将输液管道或引流管等拔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续原发疾病治疗或康复，加强对原发病观察，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引起休克疾病的预防，避免各种意外伤害的发生，学会受伤后的紧急救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休克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心排血量、动脉血气分析、动脉血乳酸盐含量等监测休克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机体受到强烈的致病因素侵袭后，导致有效循环血量锐减、组织血液灌流不足所引起的以微循环障碍、代谢障碍和细胞受损为特征的病理性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被汽车撞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急诊入院。患者浅昏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50/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立即查血常规、血型，紧急配血，给予双通道静脉输入平衡盐、代血浆，静滴止血药物等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侧肩胛骨、肱骨头粉碎性骨折，左侧髂骨翼、髋臼及股骨粗隆间粉碎性骨折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：腹腔内无实质脏器破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：未发现颅内血肿及脑挫裂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显著苍白，肢端发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28:06Z</dcterms:modified>
  <cp:revision>96</cp:revision>
  <dc:subject/>
  <dc:title>内科护理学</dc:title>
</cp:coreProperties>
</file>